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5DC-281A-480C-9B9F-E41A89AA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06A-47FE-48C3-9154-B562495D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772-2D05-4EA1-B2F8-43B509CD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824-B87F-4677-9EA4-22AC3AFF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88B-7C2B-45BF-80E7-E3147425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05F-9E96-4159-A767-0626BFE1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FE5-45F3-46E6-9FFB-659D907A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A55-B58C-4BA6-93BE-9CD22CB0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172-44EA-4BA7-BE40-D4D0D387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E3B-CB99-4616-A7CD-9A0AAECD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1C1-6C3F-40A4-AFD8-2A054409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F71-34DB-4F83-9BCD-817FD0EF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C4DF-3C01-4A2C-9A1B-FE7053C4B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0:24Z</dcterms:created>
  <dc:creator> </dc:creator>
  <dc:description/>
  <dc:language>en-US</dc:language>
  <cp:lastModifiedBy> </cp:lastModifiedBy>
  <dcterms:modified xsi:type="dcterms:W3CDTF">2009-03-09T17:40:30Z</dcterms:modified>
  <cp:revision>1</cp:revision>
  <dc:subject/>
  <dc:title>Slide 1</dc:title>
</cp:coreProperties>
</file>